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FBF-F206-4C79-9C2E-E96A95E8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85F-2688-4516-9D56-FCEE88B5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C22E-9C74-43FA-909A-C128A62B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30A-688F-4961-B28A-137AF0BD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FB91-17F2-4EBA-9A28-08C0832A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F055-35D5-4548-B276-C771AB9E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A60-2F9A-4D35-871B-8206C04F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DB15-0A64-4D06-8BD6-91905B86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F624-0506-427A-A6A9-E8D52BD6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A8D6-8DA2-4EDF-9485-3C6EF912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E720-2389-4ABF-BCCD-C579ECEB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319-519E-426C-A1D6-ABFBCE19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54FF-2784-4A68-93CD-851EF740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67AF-54DA-4409-8E92-4533D0F2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8831-704A-42AF-A274-070DE045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7E46-D0FF-4AC3-B2EB-D62BD972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808E-5392-4263-A29D-FB2BACFF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DB7A-3B54-4A68-9C87-AD92903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0D8-ED2F-4E8B-A159-A38D67E4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C5C5-B07A-4881-B35C-F4336521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112-1978-46AB-A072-01352635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D09-97DA-460D-A3B9-B6782BA2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E575-F232-4996-894C-D7406A0B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13F-BE7F-409C-8922-5E2C2914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E4C-3F08-4B41-90E0-AB4819926768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5E8D-8E46-404F-B831-66F806AF005F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2840" cy="3724200"/>
        </p:xfrm>
        <a:graphic>
          <a:graphicData uri="http://schemas.openxmlformats.org/drawingml/2006/table">
            <a:tbl>
              <a:tblPr/>
              <a:tblGrid>
                <a:gridCol w="1538640"/>
                <a:gridCol w="1538640"/>
                <a:gridCol w="1538280"/>
                <a:gridCol w="1538640"/>
                <a:gridCol w="1538640"/>
              </a:tblGrid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cmassengale</cp:lastModifiedBy>
  <dcterms:modified xsi:type="dcterms:W3CDTF">2006-05-31T16:40:45Z</dcterms:modified>
  <cp:revision>3</cp:revision>
  <dc:subject/>
  <dc:title>Twenty Questions </dc:title>
</cp:coreProperties>
</file>